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2733-396A-4A88-978F-62D853D64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00B7-5CC5-4D4C-A7AB-714768336F69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E2D8-2650-484F-9A9E-7FC703E77C8B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BF25-2892-4BEA-B064-9B260D2CB0AA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48F5-960B-4B60-AB82-4851E39A465D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B3A7-EE93-4090-9DC4-5E5AADF2644D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E104-35BB-4A78-818C-996FDAEABF58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F559-B4CC-40B3-9F4E-F2DFC8823C25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E1E0-5C03-4442-87C4-0FA0759FFE15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0178-A462-403E-B1C1-EF7ACE1044B9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8FC4-E97D-4939-B7F2-B96FA8140572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C2F3-AAC8-4B74-BDF8-194B9DD1B7E0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F8BD-9932-46D5-9414-A3887E0B8047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C273-6DF0-4BB4-A7F6-3ACC0B5A749F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BD60-0DAC-435B-BD1F-27BE052C33F9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D58-028A-4D41-BE83-E7A6DB70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DE0D-51CF-436A-B957-0EB70B2C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EE6-CB79-4C33-91F2-D3A1AB7B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D45-1E37-44FB-98F8-4BD33B5F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F442-CBBF-40CE-83A2-F8622F35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A33B-8562-4344-A6E2-01F98B22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EF08-DAE5-4C6E-9284-0BED8A2F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669E-D83A-471E-BA84-2EEAE569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A643-B499-41BE-B510-BE7302D1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1082-DE53-4ACE-BED0-A5042B63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0BA3-0819-481D-9B72-03AD74F1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5F1-3860-4B7B-BA43-70D9F578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D4A3-B715-4137-B6F3-A0F898B3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A1D8-04EE-460C-87BA-093B81C1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0888-85BA-411E-821A-65E336EC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9394-6708-4AB7-83E4-2B23EDE5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3EAB-E87D-418B-9DFB-CFE24F03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936D-70A9-4C07-A9DA-B0EB32D0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CE6D-E3A9-4C79-B9D3-86A02C25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7152E-B821-4DEF-B870-55ABA3BB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B4D4-A6FC-42FB-873E-1CBF4BF8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5F85-7EBD-4832-A2A5-2BA7871F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E3E4-F40A-4C4C-904B-F69552E3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46CC2-A44B-4CF8-9A48-95600354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EC99-6127-404C-8D62-0884B155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E0C32-564E-496C-B3A7-94BAC46F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12F6-D6F1-4A07-9736-5E2665CA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F3CBE-8159-41A4-A46A-F0E97FD1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9D3E-E925-467A-B46B-C6B201CF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F5B5F-254A-4EBF-B059-E4420291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0ED7F-A698-4F0D-B508-9BA5FC01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CD879-C03C-4FB2-BFDF-6A7AAA7F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CCB6E-B104-4BAC-942B-864817FB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839-EF2D-4DF0-964C-2189E56A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B5598-9E4A-4966-869E-C78810AA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721DE-CA08-413E-A3F7-5DC09183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2B976-1F77-48BC-BB5F-21FD633C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915AB-A2E2-4CB6-91B6-EDE6E54E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B10A9-363C-42EC-9D08-D333DEBD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6FC7C-C7C4-4BDF-9CC6-5C0FBC05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2C78E-9DB7-464D-A662-C8BA92C6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B2A93-E1D8-4C14-A41B-C2BD4A66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316EA-07A2-46A6-B544-9A10F1A8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F044E-9D86-4685-B29D-2DE6583D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DD5-80E0-4DDD-920C-3A9CF108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ED89D-8A59-4A8F-87F1-6BDD9570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EE039-2FC7-49E3-B971-EEB528BB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EE4C0-49B9-45CE-BFE3-A339E2C9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9D530-DC7C-485D-9E49-A65B42A4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45182-025C-4A3E-BD2D-A89163FB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8CF67-61E8-4DAE-AA86-5E943C94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617A5-7883-40C0-A609-D28CB01F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EAD6D-674C-4114-B7C8-63809DA4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890F0-FCA3-42D7-A8E0-980ADE73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CA1CC-94CD-4564-A116-B22C617F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788-4077-4AA7-99B0-0BEEDBA3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F7573-9D05-4D4A-8024-3F6DFE1E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400-DFEF-419E-AD1E-8ED91637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E98-53C2-46F0-BB4D-273D4BB8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D4A-0EB7-4035-8DBA-D5691F7F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8195-C52B-4738-8F1E-8EF96234653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9F44-DE61-4F12-9DE6-612A573B660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6306-74FF-4091-92D2-14B18130EC9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F911-AED8-4B99-BA49-C389FC445AA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9254-6A2B-40B4-BC89-145AE163F5E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2533c"/>
                </a:solidFill>
                <a:latin typeface="Arial"/>
              </a:rPr>
              <a:t>In depth  Interviews 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Shahaduz Zaman Ph.D. </a:t>
            </a:r>
            <a:br>
              <a:rPr sz="28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Newcastle University, UK </a:t>
            </a:r>
            <a:r>
              <a:rPr b="0" i="1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Question Typ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mographic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tandard background questions e.g. age, educ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Experienc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experienced regarding a phenomena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Opinion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think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estion Types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Behavior question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has done or is doing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Knowledg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get facts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Feeling question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 think…’ is not a feel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While you are asking questions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of the sequence of question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sk the question properly (wording, double questions)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asking ‘why’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8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f what people have to say about their world in generally boring to you, then it will be difficult for you to be a good In-Depth interviewer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nless you are fascinated by the rich variation in human experience, qualitative interviewing will become toil.  </a:t>
            </a:r>
            <a:br>
              <a:rPr sz="2800"/>
            </a:br>
            <a:br>
              <a:rPr sz="2200"/>
            </a:b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 want to understand the world from your point of view, I want to know what you know in the way you know it. I want to listen to you until I think like you. </a:t>
            </a: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2533c"/>
                </a:solidFill>
                <a:latin typeface="Arial"/>
              </a:rPr>
              <a:t>Interview types</a:t>
            </a:r>
            <a:br>
              <a:rPr sz="2900"/>
            </a:b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lose ended lead by researche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emi-structured interviews</a:t>
            </a: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negotiated by researchers and participant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Un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by participa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s is also called, Ethnographic or In-depth interviews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alitative research</a:t>
            </a: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mostly uses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structured interview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so called ‘Ethnographic’ or ‘In depth interviews’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nterView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An inter change of views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Features of an In-Depth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Conversation with a purpos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t is unstructured but not unfocused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nd respondents are partners, working together to achieve the shared goal of understanding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Aim of In-depth Interview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find out from people those things that we can not directly observe…..People’s thoughts, feelings, intentio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allow us to enter into other person’s  perspectives.(Emic View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2900"/>
            </a:br>
            <a:r>
              <a:rPr b="0" lang="en-US" sz="22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ame standard questions is asked to all respondents in the same sequ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rofessional tone, diversion ignor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lose ended questions with rare probe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estions and order are tailored to specific people and situatio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ore like a flexible, friendly convers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pen ended questions and frequent prob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lone controls the direction of discussion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have little valu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djust to respondents norms.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is crucial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asis for any interview is questioning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need to be careful about what type of questions we are ask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47:23Z</dcterms:created>
  <dc:creator>User</dc:creator>
  <dc:description/>
  <dc:language>en-US</dc:language>
  <cp:lastModifiedBy>Zaman</cp:lastModifiedBy>
  <dcterms:modified xsi:type="dcterms:W3CDTF">2013-12-11T21:21:31Z</dcterms:modified>
  <cp:revision>62</cp:revision>
  <dc:subject/>
  <dc:title>Ethnographic Interview</dc:title>
</cp:coreProperties>
</file>